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CE1B-9B64-4147-A8AB-92F946A1E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067E-493A-4608-90FE-6387A1005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4E50-0569-4B46-A165-FE2C60E85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BC98-0351-4EB0-9107-C4F44247D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D9EFA-75B1-46A9-B432-A04775CFE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69251-82CA-4E82-97E1-FD21EA782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D7DA4-6FE9-4EB2-BFEF-D24BB694F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22990-8328-4CAF-9AD4-CC9832CD0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F3366-566C-4258-8D3D-92F749CE5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FD61F-363D-45D4-9ACB-8EA8363A5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C515B-CDFF-4CCD-9CFB-DEF0F6CA5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2F13-8E84-45C0-BD2B-7CDCBB1FB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A764B-D939-46E8-B204-2EF9D2822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9C108-D6AC-41CB-AF80-BE47BF4F8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9CD61-AC86-49F3-A37F-B9B61F470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4CA60-6E4E-456A-8616-2DA81E7B4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DF9C8-1A6F-45EF-8AC1-F8D4823DD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4381-8AC1-4487-AFA8-BED394CDD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416A-EFA3-4C98-BF9D-E4795B82F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9C04-8F90-4AC9-A136-648F0AB3B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B8FB-A347-4BB0-BC40-47C9A368B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2565-5F07-4A28-A065-6F8A65D6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74D5-C9F2-42AD-A087-6AF16BE87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EEF9-89D0-4E45-B4EE-C689B85EF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2B6CE-A431-40C7-9485-5CAD62CA53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87513-81A8-42A7-BDF5-4B2D2F2A14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2280" y="1599840"/>
            <a:ext cx="88394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Are Two Heads Better Than One?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Experiment Conducted B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chel Vess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ypothesis was correct.  Both the boys and the girls improved as a group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oys, however, improved much more drastically than the gir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roblem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people work better in groups o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themselv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es this vary between boys and girl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the scores differ between Language and Mathematic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ypothes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predict that working in groups will improve the sco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predict that it will improve for both boys and gir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predict that girls will be better at Language and boys at Mathematic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aterial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bo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gir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 individual te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 group t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master sheet (group tes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ding sheets for e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aterial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ding Pe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nci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opwat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me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rocedur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ther all materi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ther all test su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 boys individu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 boys as a 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d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ord S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 girls individu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 girls as a 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d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ord S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ther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up re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turn tests to particip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ys individual Range:             0-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ys’ average individually:     3.3/12      27.5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ys score as a group:            8/12       66 2/3 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rls individual range:               0-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rls’ average individually:      2.1/12      17.5%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rls’ score as a group:            3/12        25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14:28:25Z</dcterms:created>
  <dc:creator>USD376</dc:creator>
  <dc:description/>
  <dc:language>en-US</dc:language>
  <cp:lastModifiedBy>USD376</cp:lastModifiedBy>
  <dcterms:modified xsi:type="dcterms:W3CDTF">2011-02-23T15:12:48Z</dcterms:modified>
  <cp:revision>4</cp:revision>
  <dc:subject/>
  <dc:title>Slide 1</dc:title>
</cp:coreProperties>
</file>